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479DE-BB6D-4D95-AE88-B7D540A9A8C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CE662-4D18-444D-8463-491A68393D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057E4-36E6-44ED-AD7B-851C93A44B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9358A-E907-45B5-B3BE-CDF44E771CB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7F908-8681-4CE0-A454-C3BD5743DA6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7D4B0-11FF-495F-9E68-A8945B632B2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9AEB0-3B7D-4ACF-83EF-C22697F54B8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11923-F667-473F-AC39-02A76FCA973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C9B35-8718-403E-A134-3A5D9382A8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EC6EF-19AB-466D-9ADD-5AF64CEBA8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8B3B-FBBD-425F-9A7B-ACA791CA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2ABB-7AEB-4182-8E1D-3128D221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D3D1-7E06-43CE-A4C4-3F948B59BA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D15C-0E71-45D4-89B4-0F1910A8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8CF3-19D3-4BBF-B934-60DEEC7C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FA8B-7E46-42DC-A1C1-21D94D0C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A8DA-96A0-4680-97F7-40ECB15B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C9FC-D6A7-42B2-A9EF-FD1BC9FA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B7B03-B012-42EF-99DD-C604EF78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54D5-AA47-4656-A595-6C57EC5C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BB28-E32A-4456-942B-A7F3CCF7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A917B9-3063-4658-9CAE-FBF4A907C358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6844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COORDINACIÓN NERVI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539640" y="2519280"/>
            <a:ext cx="4243320" cy="3095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 coordinación nervi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82692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recepción del estímu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4352760" y="2448000"/>
            <a:ext cx="4214880" cy="3060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826920" y="1341360"/>
            <a:ext cx="7705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enza cuando el sistema nervioso recibe un estímulo desde los órganos sensori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cho estímulo llega hasta las zonas del sistema nervioso central encargadas de procesar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476360" y="5256360"/>
            <a:ext cx="27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maginemos un arquero que apunta a una diana. Los ojos se encargan de captar la imagen de dicha dian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400720" y="5219640"/>
            <a:ext cx="27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imagen de la diana captada por el ojo viaja hasta el área del cerebro encargada de procesar dich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720720" y="2519280"/>
            <a:ext cx="4319640" cy="3227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857840" y="2540160"/>
            <a:ext cx="3962160" cy="30398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3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 coordinación nervi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755640" y="765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elaboración de la respue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684360" y="1341360"/>
            <a:ext cx="79912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vez se ha recibido el estímulo, las distintas áreas del sistema nervioso central elaboran la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cha respuesta es enviada desde el sistema central a los distintos nervios, que llevarán la respuesta a los efect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476360" y="5327640"/>
            <a:ext cx="284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guiendo el ejemplo del arquero, una vez el cerebro ha procesado la imagen de la diana, prepara una respues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4896000" y="5400720"/>
            <a:ext cx="28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sistema nervioso central llevará dichas respuestas a los efector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800360" y="2879640"/>
            <a:ext cx="5580000" cy="25192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 coordinación nervi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2692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respuesta se efectú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84360" y="1268280"/>
            <a:ext cx="820872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la respuesta es llevada a los efectores, estos efectúa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nque a veces la respuesta puede ser de naturaleza no muscular, como una secreción, en la mayor parte de los casos implica un movimiento muscular, ya sea involuntario, reflejo, o volunta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160720" y="5319720"/>
            <a:ext cx="57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inalmente, los músculos del arquero efectuarán la respuesta, moviendo los músculos de los brazos, del torso... haciendo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e dispare con la intención de acertar en su objetiv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luis</cp:lastModifiedBy>
  <dcterms:modified xsi:type="dcterms:W3CDTF">2012-10-28T09:39:13Z</dcterms:modified>
  <cp:revision>45</cp:revision>
  <dc:subject/>
  <dc:title>Diapositiva 1</dc:title>
</cp:coreProperties>
</file>